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28B-F223-4902-A137-06FDD051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48B-02AD-45EE-B3FC-CE5C6FB2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345-F959-4A49-89E5-EBBB55ED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94C-226E-45CA-A334-7A61DB95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10C-9B76-4332-B920-933F9F57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284-AB3C-45D4-8F24-4DA062F6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D6B-EC21-464F-98E8-2BD3AA93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ABF-99CB-4336-B9FB-D7452DF1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8EDC-EBDD-4B14-AA8E-E469F550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A5C-C71C-4ECC-ACA6-C5C8CA82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41D-1667-4ADA-A2EF-DFFC07AC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A0C-DFB3-4E5D-BE55-739E30F1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554C-03F0-43F8-9060-6A2DD412A3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Renee, Omar and J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G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1447920"/>
            <a:ext cx="5715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olmarking!</a:t>
            </a:r>
            <a:endParaRPr b="0" lang="en-US" sz="1800" spc="1" strike="noStrike">
              <a:ln w="3816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rime has been committed and there was a tool used in this crime. Find out which tool was used and who it belonged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457200"/>
            <a:ext cx="6400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The Problem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hypothesis was made by looking at the tool marks visually. Our hypothesis was that it was made by screwd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57400" y="723960"/>
            <a:ext cx="48769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ypothesi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we looked at the tool marks visually then recorded that in our dat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make casts and recorded the results in the dat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685800"/>
            <a:ext cx="6705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ocedure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600200" y="152280"/>
            <a:ext cx="59436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Data Results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47560" y="3808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ol mark visually mat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ol mark in a cast mat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-2590560" y="2819160"/>
            <a:ext cx="662940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CRIME SCENE!!!</a:t>
            </a:r>
            <a:endParaRPr b="0" i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believe that the suspect, is responsible for the crime that has been commit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52480" y="228600"/>
            <a:ext cx="53341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66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clusion</a:t>
            </a:r>
            <a:endParaRPr b="1" lang="en-US" sz="1800" spc="1" strike="noStrike">
              <a:ln w="34920">
                <a:solidFill>
                  <a:srgbClr val="ff0066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3:49:33Z</dcterms:created>
  <dc:creator>Administrator</dc:creator>
  <dc:description/>
  <dc:language>en-US</dc:language>
  <cp:lastModifiedBy>Administrator</cp:lastModifiedBy>
  <dcterms:modified xsi:type="dcterms:W3CDTF">2008-04-13T14:21:26Z</dcterms:modified>
  <cp:revision>3</cp:revision>
  <dc:subject/>
  <dc:title>Slide 1</dc:title>
</cp:coreProperties>
</file>